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F14-AB76-4265-9127-8DCA1526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37E-904C-4D71-853C-7F35A3A0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435-886C-4EA9-9B96-B1A84BCE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DE7-5EA3-4CB9-B01B-641002A3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D076-8C88-491B-9053-5F6604AC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4AAB-83FE-4576-AB7E-9F3B5C2A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F0A-59D6-41B9-A48B-1782257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8C00-CDF0-40A3-B2B8-BFE28E32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D64B-0C09-4E70-AB3E-027395F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7E4C-1355-403C-85E4-281BF2E4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142B-C4EB-450F-AAB9-0BFC148D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F91-68B4-4F9A-B08C-A592F44D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C2C-E4CB-48FD-B4DE-AF510937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E042-CE7D-4341-862D-6F50FCD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6999-1012-4002-9D2E-1A85CFFE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0F3-83DA-46CB-A86E-8378E617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5061-B197-470A-BC8B-59BA8118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609-9B70-48E5-B253-1EBD6F7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DA5-9AA3-4955-8720-62F9AEF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CDB-6FF0-4DD0-9999-5CF5BF0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A11-1431-4181-AFB3-E2EEBEA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BE6-5E85-46B8-AAA5-26E0825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9DB-468C-41CA-8E4C-0EA68AF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437-4DEE-4D6F-A213-3CD070A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ＨＧｺﾞｼｯｸE-PRO"/>
                <a:ea typeface="ＨＧｺﾞｼｯｸE-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ＨＧｺﾞｼｯｸE-PRO"/>
                <a:ea typeface="ＨＧｺﾞｼｯｸE-PRO"/>
              </a:rPr>
              <a:t>2005/1/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ROSPECT Inc. / Renesas Solutions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6E6-8BAE-4A25-B8BE-60458513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010280" y="6396120"/>
            <a:ext cx="1067040" cy="2332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536400" y="63691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60028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3619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267080" y="533412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005/1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133720" y="59436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000" spc="-1" strike="noStrike">
                <a:solidFill>
                  <a:srgbClr val="000000"/>
                </a:solidFill>
                <a:latin typeface="Times New Roman"/>
                <a:ea typeface="ＤＦＰPOP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ＤＦＰPOP体"/>
              </a:rPr>
              <a:t>PROSPECT Inc./Renesas Solutions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9D50-5385-4472-97D6-7749F1A12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7600" y="263700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0280" y="26370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440" y="3059280"/>
            <a:ext cx="422280" cy="474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1160" y="3059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080" y="2986200"/>
            <a:ext cx="560160" cy="42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52900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800" y="3319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62520" y="4876920"/>
            <a:ext cx="1600200" cy="35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7840" y="151452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D Graphics Library Implement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57200"/>
            <a:ext cx="3581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F PLENARY MEETING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880" y="5943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4F0B-A6FB-4530-A2EC-06E3FA58C4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onfiguration of Auror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5029200"/>
            <a:ext cx="2133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H4-300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54864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 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BX+VGP:150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4864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PCM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419720"/>
            <a:ext cx="6400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5029200"/>
            <a:ext cx="20574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886200"/>
            <a:ext cx="6400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3352680"/>
            <a:ext cx="4191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/V Steaming 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3352680"/>
            <a:ext cx="21333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2133720"/>
            <a:ext cx="6400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5029200"/>
            <a:ext cx="20574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n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BAF-0554-4BE3-8A50-C46A982CB1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266688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76520" y="2437920"/>
            <a:ext cx="1218600" cy="152640"/>
            <a:chOff x="1676520" y="2437920"/>
            <a:chExt cx="1218600" cy="152640"/>
          </a:xfrm>
        </p:grpSpPr>
        <p:sp>
          <p:nvSpPr>
            <p:cNvPr id="278" name=""/>
            <p:cNvSpPr/>
            <p:nvPr/>
          </p:nvSpPr>
          <p:spPr>
            <a:xfrm>
              <a:off x="167652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520" y="2590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75248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52480" y="243828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895480" y="2437920"/>
            <a:ext cx="1219320" cy="152640"/>
            <a:chOff x="2895480" y="2437920"/>
            <a:chExt cx="1219320" cy="152640"/>
          </a:xfrm>
        </p:grpSpPr>
        <p:sp>
          <p:nvSpPr>
            <p:cNvPr id="283" name=""/>
            <p:cNvSpPr/>
            <p:nvPr/>
          </p:nvSpPr>
          <p:spPr>
            <a:xfrm>
              <a:off x="289548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48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97180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7180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114800" y="2437920"/>
            <a:ext cx="1219320" cy="152640"/>
            <a:chOff x="4114800" y="2437920"/>
            <a:chExt cx="1219320" cy="152640"/>
          </a:xfrm>
        </p:grpSpPr>
        <p:sp>
          <p:nvSpPr>
            <p:cNvPr id="288" name=""/>
            <p:cNvSpPr/>
            <p:nvPr/>
          </p:nvSpPr>
          <p:spPr>
            <a:xfrm>
              <a:off x="411480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19112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334120" y="2437920"/>
            <a:ext cx="1218600" cy="152640"/>
            <a:chOff x="5334120" y="2437920"/>
            <a:chExt cx="1218600" cy="152640"/>
          </a:xfrm>
        </p:grpSpPr>
        <p:sp>
          <p:nvSpPr>
            <p:cNvPr id="293" name=""/>
            <p:cNvSpPr/>
            <p:nvPr/>
          </p:nvSpPr>
          <p:spPr>
            <a:xfrm>
              <a:off x="533412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4120" y="2590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41008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0080" y="243828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553080" y="2437920"/>
            <a:ext cx="1219320" cy="152640"/>
            <a:chOff x="6553080" y="2437920"/>
            <a:chExt cx="1219320" cy="152640"/>
          </a:xfrm>
        </p:grpSpPr>
        <p:sp>
          <p:nvSpPr>
            <p:cNvPr id="298" name=""/>
            <p:cNvSpPr/>
            <p:nvPr/>
          </p:nvSpPr>
          <p:spPr>
            <a:xfrm>
              <a:off x="655308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62940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940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772400" y="2437920"/>
            <a:ext cx="1219320" cy="152640"/>
            <a:chOff x="7772400" y="2437920"/>
            <a:chExt cx="1219320" cy="152640"/>
          </a:xfrm>
        </p:grpSpPr>
        <p:sp>
          <p:nvSpPr>
            <p:cNvPr id="303" name=""/>
            <p:cNvSpPr/>
            <p:nvPr/>
          </p:nvSpPr>
          <p:spPr>
            <a:xfrm>
              <a:off x="777240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84872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4872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1800" y="2666880"/>
            <a:ext cx="83808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666880"/>
            <a:ext cx="16761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266688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4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2971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60" y="236232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0" y="2666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PU cal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97180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LERATOR Write In to 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2971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2971800"/>
            <a:ext cx="91440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297180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848720" y="32767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327672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276720"/>
            <a:ext cx="114300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76720"/>
            <a:ext cx="114300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3240" y="3200400"/>
            <a:ext cx="203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play Readout from 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3640" y="182880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2133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191120"/>
            <a:ext cx="8991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(or not) to provide Synchronization API among CPU, ACC, and Display Dri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LERATO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also require y or more time to draw the triang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full them with textures. How to detect the tim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(or not) to provide mechanism to forcing to stop the CPU/ACC at next VSYNC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 ACCELERATOR may this problem more difficult. Which has the priority among 2D or 3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 user is requesting to draw 2D and 3D in a fram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Each accelerator needs to announce their finish of drawing to CP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tion Image like MPEG2/4 could be integrated with these images. How to synchronize the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5400" y="32259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78400" y="322596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5400" y="3581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78400" y="3581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3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8120" y="358128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e Time to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EFB-0045-481B-8B93-7D8E35CB6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specify the applicat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list up the application ca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  Car Navig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 and 3D Mixed Image on Navig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TV 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veillance Video, et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s to specify the coverage of OS for the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clarify on the requirement on HAL, Synchronization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Management, 2D/3D Mixed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y with the other working gro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invite 3rd Pa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lerator venders, Library vender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448-F9D4-42B9-93C2-324BD993F1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nt Embedded 3D Graph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any Embedded 3D Hardware Accelerators are available.(See P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eparate Chi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：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VIDEA, ATI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P Cor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：　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magination Technologies, BitBoy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Japanese Semicon Vender tends to provide their own c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arious implementation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SeeP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ifferent CPUs, w/wo Floating Point Processor,w/wo Geometry -Vector Porcessor, w/wo 2D Accelerator,,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any Embedded 3D Graphics Libraries are avail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OPEN/GL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riterion,  Fatfammer, IdeaWorks, Mascot Capsule, Superscap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90E-58E3-4545-928B-310D8194C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2133720"/>
            <a:ext cx="6781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9144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Graphics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5146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0384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7242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33412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3526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583000" y="2133720"/>
            <a:ext cx="792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67720" y="4827600"/>
            <a:ext cx="74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6520" y="41418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VID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45600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tB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6320" y="47512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age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7040" y="406548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o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77640" y="211788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2360" y="2133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0440" y="411480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on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6720" y="3379680"/>
            <a:ext cx="13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P-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2480" y="3379680"/>
            <a:ext cx="101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ccele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2680" y="2666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1680" y="2590920"/>
            <a:ext cx="11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X-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05040" y="2541600"/>
            <a:ext cx="13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P-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75080" y="213372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95360" y="21337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57760" y="21178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1337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7000" y="5334120"/>
            <a:ext cx="19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NESA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3D/Z4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1280" y="56451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2520" y="5562720"/>
            <a:ext cx="16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SHIB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4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73080" y="5791320"/>
            <a:ext cx="9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10080" y="601992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SHAR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21160" y="2465280"/>
            <a:ext cx="129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, INTE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0440" y="4876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on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EA4-276A-442F-AF74-3F9453204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ation MBX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133720"/>
            <a:ext cx="678168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4382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96252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7242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4864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2004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2880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6668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4592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1911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9831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5715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04812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60280" y="20574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9600" y="2057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26708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48640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2057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72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452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-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98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-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0" y="2590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4320" y="33526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4320" y="41148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7640" y="48769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94800" y="5535720"/>
            <a:ext cx="16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CHI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8520" y="2590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8520" y="335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484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4840" y="5638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05520" y="4876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4876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41200" y="4876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800" y="4114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GP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892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1760" y="33526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41200" y="2590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1200" y="33526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440" y="41148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BX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4160" y="5638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440" y="56386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BX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3572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6800" y="33526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3480" y="39625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3480" y="46483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3480" y="541008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B9D-70ED-4DBA-8462-8DD9F6BAA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AVG 2D Hardware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ntegrating the abstraction layer named DirectF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esent Target: SH7751R+Silicon Motion for Digital TV application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ovides a light-weight and standardized interface for CE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ovides the portability and usability among the different hard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ovides application direct pass to controller to enable hardware draw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TK+ on top of DirectFB will also provide the application port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quirement /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eeds to develop a special driver for the hardware accel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ntegrated with the frame buffer driver for standard LINUX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irectFB is not so common in PC LINUX world such as PC LINUX adopt X11 based windowing environ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n not so many implementation y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C2F-5521-4B30-A555-6BB8B1708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o investigate the possibility of HAL for 3D graphics libr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oexistence with HAL for 2D graphics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ELF  2D HAL is using DirectF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Direct FB can be expanded to 3D using MESA(a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ree OpenGL compliant library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/DRI named DirectFBG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KAA mechanism for 2D acceleration  implementation is also ab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eeds to investigate these HAL and the other candida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 specify the way to put 3D image on a 2D structure.moving image fr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t may be possible to write 3D image on the specific moving image fr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eeds to check the frame de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eeds to check 2D graphics component on top of 3D ima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s it possible to draw both 3D and 2D image in a frame simultaneous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D and 3D Hardware  needs to create synchronization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054-141F-43CA-8825-B9EA7466B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mprove th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provide the way to synchronize 2D/3D/Display Driv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ination’s 3rd Party Display Driver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provide the substitution way for the floating point mathematics cap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the implementation with no floating point arithmetic unit or vector arithmetic unit for geomet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check a resource allocation mechanism for CPU(and Bus or Memory) : This is an essential OS structure 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may be OK if CPU in one thread could be used for 2D/3D drawing using VSYNC Synchronization and if the application manages the prior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communication or sound drivers is initiating new thread, the session of communication or the sound stream could be disturbed, or 3D graphics loses some fra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945-D8BB-4B2D-A0DB-6463C7692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ROR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0680"/>
            <a:ext cx="6335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Integrated with CPU“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H-4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”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uper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ＭＳ Ｐ明朝"/>
                <a:ea typeface="ＭＳ Ｐ明朝"/>
              </a:rPr>
              <a:t>TM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）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,“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PowerVR</a:t>
            </a: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Ｐ明朝"/>
              </a:rPr>
              <a:t>®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”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Imagination Technologies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）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, and AD PCM Sound Eng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8149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41911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3388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0292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4956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51460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I-ELECTORNICS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: a part of 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EGA-SAMMY Holdings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has designed 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URORA System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for their busin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URORA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consists of  a system-on-chip solution integrated with CPU, Graphics Hardware Accelerator Engin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nd Sound Engine and provides very compact and high performance 3D graphics and sound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411480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High End 3D Graphics Capability : 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riangle drawing : 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１０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M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ｐｏｌｙｇｏｎ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/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ｓｅｃ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,  and Pixel Fill Rate : 150M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ｐｉｘｅｌ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/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ｓｅ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4419720"/>
            <a:ext cx="6335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pecially designed 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D graphics library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provides simple and easy development environ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or 3D graphics application not requiring deep hardware knowl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95288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Movie/Stream Audio middleware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provides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High Quality and High Performance Video and Audio rende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27040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Real-time)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LINUX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OS provides highly efficient Real-time multi-task ope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209680"/>
            <a:ext cx="1752480" cy="220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beb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360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URORA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352680"/>
            <a:ext cx="1676520" cy="228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beb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360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BFA-29B7-4852-82B5-A7F1CAA62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Diagram of AUROR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2400" y="2216160"/>
            <a:ext cx="6480000" cy="367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45040" y="3059280"/>
            <a:ext cx="160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0600" y="3238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0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58000" y="50799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2373480"/>
            <a:ext cx="118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1280x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46840" y="4981680"/>
            <a:ext cx="43812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2480" y="4761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64400" y="4981680"/>
            <a:ext cx="43812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8560" y="5249880"/>
            <a:ext cx="144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59480" y="476100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1840" y="4767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37280" y="4794120"/>
            <a:ext cx="1171440" cy="8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946840" y="5351400"/>
            <a:ext cx="35856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3640" y="562608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0480" y="5087880"/>
            <a:ext cx="4384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62400" y="5176800"/>
            <a:ext cx="4384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4320" y="5265720"/>
            <a:ext cx="4906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648480" y="2790720"/>
            <a:ext cx="655560" cy="528840"/>
            <a:chOff x="6648480" y="2790720"/>
            <a:chExt cx="655560" cy="528840"/>
          </a:xfrm>
        </p:grpSpPr>
        <p:sp>
          <p:nvSpPr>
            <p:cNvPr id="224" name=""/>
            <p:cNvSpPr/>
            <p:nvPr/>
          </p:nvSpPr>
          <p:spPr>
            <a:xfrm>
              <a:off x="6648480" y="2790720"/>
              <a:ext cx="655560" cy="528840"/>
            </a:xfrm>
            <a:prstGeom prst="cube">
              <a:avLst>
                <a:gd name="adj" fmla="val 1373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57920" y="2951280"/>
              <a:ext cx="109080" cy="10800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76800" y="3059280"/>
              <a:ext cx="109440" cy="107640"/>
            </a:xfrm>
            <a:prstGeom prst="cube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57920" y="3113280"/>
              <a:ext cx="109080" cy="16020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Music"/>
          <p:cNvSpPr/>
          <p:nvPr/>
        </p:nvSpPr>
        <p:spPr>
          <a:xfrm>
            <a:off x="7007400" y="4441680"/>
            <a:ext cx="72720" cy="115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ound"/>
          <p:cNvSpPr/>
          <p:nvPr/>
        </p:nvSpPr>
        <p:spPr>
          <a:xfrm>
            <a:off x="6676920" y="4335480"/>
            <a:ext cx="238320" cy="320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26200" y="4983120"/>
            <a:ext cx="4762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08400" y="3224160"/>
            <a:ext cx="2346120" cy="1754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3320" y="3352680"/>
            <a:ext cx="655560" cy="266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M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03440" y="3619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44960" y="39085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52760" y="3825720"/>
            <a:ext cx="163800" cy="50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MEMEO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62240" y="425124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62240" y="458964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038480"/>
            <a:ext cx="568440" cy="16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6680" y="4554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03440" y="4267080"/>
            <a:ext cx="94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06680" y="4762440"/>
            <a:ext cx="95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0720" y="3954600"/>
            <a:ext cx="12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6160" y="4478400"/>
            <a:ext cx="566640" cy="160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05240" y="38736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04960" y="3772080"/>
            <a:ext cx="540000" cy="26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04960" y="4170240"/>
            <a:ext cx="559080" cy="16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PERIPHER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04960" y="4506840"/>
            <a:ext cx="559080" cy="158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17360" y="4248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17360" y="457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92240" y="3510000"/>
            <a:ext cx="6098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031840" y="4784400"/>
            <a:ext cx="127332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24240" y="4548240"/>
            <a:ext cx="2392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16560" y="4254120"/>
            <a:ext cx="8236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16560" y="3933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33960" y="375444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0360" y="3060720"/>
            <a:ext cx="144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1520" y="4761000"/>
            <a:ext cx="302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4160" y="41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1120" y="3684600"/>
            <a:ext cx="581040" cy="36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57800" y="4624560"/>
            <a:ext cx="158760" cy="272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560" y="4125960"/>
            <a:ext cx="657360" cy="266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3795840"/>
            <a:ext cx="65736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FEA-B02B-4231-8744-1ED880584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8:37:21Z</dcterms:created>
  <dc:creator>Shiro Hagiwara</dc:creator>
  <dc:description/>
  <dc:language>en-US</dc:language>
  <cp:lastModifiedBy>Shiro Hagiwara</cp:lastModifiedBy>
  <cp:lastPrinted>2004-08-14T02:27:07Z</cp:lastPrinted>
  <dcterms:modified xsi:type="dcterms:W3CDTF">2005-01-22T01:13:05Z</dcterms:modified>
  <cp:revision>32</cp:revision>
  <dc:subject/>
  <dc:title>自動車と情報SECUTITY技術の接点</dc:title>
</cp:coreProperties>
</file>